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C56-CABD-497C-88CF-29E6A0BB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CCE-A428-497D-A5C3-F083FE19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20D-77C0-41AF-9124-F31F8705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318-C860-49AA-A0FE-5A2B59E0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0ACA-0A1D-4C07-903B-F3CB5CF1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B913-F347-4B0C-A0C4-549470C6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4E63-069D-4AFF-93E9-8C3645E2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E5EB-1BD4-4ED4-AE74-400B718F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F826-C722-4498-87E2-ECB20A9F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8106-BF04-40FA-B479-12900B74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7851-CD36-4C3D-959D-86D12E5C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286-C3EC-4115-AA12-50B4820E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2558-F37A-41BA-9FA4-8BA23A4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001C-DE8D-4ED8-8B19-9D9D186D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DC68-104C-404A-8869-91B802A8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6DB1-E160-4059-9F6A-9400BC80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6E22-16FE-4B28-AD97-65233E5D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190-E93E-4DC9-8C5B-F7AF5B21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573-88C0-4501-984E-06C1FA2D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4BC-C3D5-4305-804E-A64796E2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DBE-0CC8-47A3-8B1D-A55C222D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4EA-03C8-40CE-A602-21A0A5D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5BF-1819-4ABC-AF70-254F5A68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C2F-745F-4482-91AF-2B05202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6CB0-9975-452E-9A07-A76A0C1044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A7C5-0909-4989-96C3-D4B87C26C8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iews &amp; Vocabular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Grade No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Design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ep it Simpl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good rule of thumb is no more than 5 (+/-2) points per slide.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ne idea per slid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od use of white spac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oo much on one slide can be over stimulating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of white space to separate items and make them more readabl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 it bi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eadlines biggest (36/32pt), sub-heading 2nd biggest (28/24pts), and text boxes smallest (20/16 pts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icture/soun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ictures need to relate to slide idea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nd must add to content of slide. Don’t have sound just to have sou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Design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or combination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me color combinations make slide hard to read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on’t use distracting colors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 contrasting color ex. Dark background w/ light font colo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stency of item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sistency of object makes presentation more professional looking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ame background, same headline style, same textbox style, etc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ammar/spell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ofreading is important so the presenter appears knowledgeable about subject matter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 poorly put together presentation reflect on the presenters competenc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esenter also needs to know how to pronounce all words in presentati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st presenta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ke sure presentation works as you expected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You may find problem that don’t show up in normal view because they only appear in slide show view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76720" y="0"/>
            <a:ext cx="1752480" cy="380880"/>
          </a:xfrm>
          <a:prstGeom prst="leftArrow">
            <a:avLst>
              <a:gd name="adj1" fmla="val 50000"/>
              <a:gd name="adj2" fmla="val 115028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04920"/>
            <a:ext cx="1752480" cy="380880"/>
          </a:xfrm>
          <a:prstGeom prst="leftArrow">
            <a:avLst>
              <a:gd name="adj1" fmla="val 50000"/>
              <a:gd name="adj2" fmla="val 115028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u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85800"/>
            <a:ext cx="4038480" cy="304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685800"/>
            <a:ext cx="1981080" cy="380880"/>
          </a:xfrm>
          <a:prstGeom prst="leftArrow">
            <a:avLst>
              <a:gd name="adj1" fmla="val 50000"/>
              <a:gd name="adj2" fmla="val 130033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 Tool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14400"/>
            <a:ext cx="4038480" cy="304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914400"/>
            <a:ext cx="1981080" cy="380880"/>
          </a:xfrm>
          <a:prstGeom prst="leftArrow">
            <a:avLst>
              <a:gd name="adj1" fmla="val 50000"/>
              <a:gd name="adj2" fmla="val 130033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tting Tool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6320" y="1447920"/>
            <a:ext cx="838440" cy="1447560"/>
          </a:xfrm>
          <a:prstGeom prst="upArrow">
            <a:avLst>
              <a:gd name="adj1" fmla="val 50000"/>
              <a:gd name="adj2" fmla="val 4316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ine Ta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447920"/>
            <a:ext cx="838080" cy="1447560"/>
          </a:xfrm>
          <a:prstGeom prst="upArrow">
            <a:avLst>
              <a:gd name="adj1" fmla="val 50000"/>
              <a:gd name="adj2" fmla="val 43181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Ta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1523880"/>
            <a:ext cx="533520" cy="4191120"/>
          </a:xfrm>
          <a:custGeom>
            <a:avLst/>
            <a:gdLst>
              <a:gd name="textAreaLeft" fmla="*/ 0 w 533520"/>
              <a:gd name="textAreaRight" fmla="*/ 192600 w 5335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200400"/>
            <a:ext cx="914400" cy="7621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657600"/>
            <a:ext cx="1143000" cy="685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5486400"/>
            <a:ext cx="1143000" cy="685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76320" y="5867280"/>
            <a:ext cx="762120" cy="2286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5638680"/>
            <a:ext cx="1143000" cy="609840"/>
          </a:xfrm>
          <a:prstGeom prst="leftArrow">
            <a:avLst>
              <a:gd name="adj1" fmla="val 50000"/>
              <a:gd name="adj2" fmla="val 4685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ew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5943600"/>
            <a:ext cx="1981080" cy="457200"/>
          </a:xfrm>
          <a:prstGeom prst="leftArrow">
            <a:avLst>
              <a:gd name="adj1" fmla="val 50000"/>
              <a:gd name="adj2" fmla="val 10832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ing Tool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6248520"/>
            <a:ext cx="1981440" cy="4572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us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6553080"/>
            <a:ext cx="1981080" cy="457200"/>
          </a:xfrm>
          <a:prstGeom prst="leftArrow">
            <a:avLst>
              <a:gd name="adj1" fmla="val 50000"/>
              <a:gd name="adj2" fmla="val 10832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sk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15238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oll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514400">
            <a:off x="8381880" y="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psi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2133720"/>
            <a:ext cx="4343400" cy="685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20574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0574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20574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7432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27432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27432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16765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990720"/>
            <a:ext cx="685800" cy="990360"/>
          </a:xfrm>
          <a:prstGeom prst="downArrow">
            <a:avLst>
              <a:gd name="adj1" fmla="val 50000"/>
              <a:gd name="adj2" fmla="val 3610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295280"/>
            <a:ext cx="1066680" cy="914400"/>
          </a:xfrm>
          <a:prstGeom prst="rightArrow">
            <a:avLst>
              <a:gd name="adj1" fmla="val 50000"/>
              <a:gd name="adj2" fmla="val 29163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t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36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76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rmal 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main editing view that you will use to write and design your presentation.  Includes 3 are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78000" indent="-363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line pa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78000" indent="-363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 pa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78000" indent="-363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es pa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68007" b="35789"/>
          <a:stretch/>
        </p:blipFill>
        <p:spPr>
          <a:xfrm>
            <a:off x="3886200" y="738360"/>
            <a:ext cx="1600200" cy="10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0" r="68007" b="35789"/>
          <a:stretch/>
        </p:blipFill>
        <p:spPr>
          <a:xfrm>
            <a:off x="5257800" y="3809880"/>
            <a:ext cx="3048120" cy="207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19720" y="4419720"/>
            <a:ext cx="1523880" cy="914400"/>
          </a:xfrm>
          <a:prstGeom prst="rightArrow">
            <a:avLst>
              <a:gd name="adj1" fmla="val 50000"/>
              <a:gd name="adj2" fmla="val 41663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4343400"/>
            <a:ext cx="1371600" cy="762120"/>
          </a:xfrm>
          <a:prstGeom prst="leftArrow">
            <a:avLst>
              <a:gd name="adj1" fmla="val 50000"/>
              <a:gd name="adj2" fmla="val 44993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8562200">
            <a:off x="6324480" y="533376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View Pa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04760" indent="-54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utline Pan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contains the outline and slide tabs.  Drag the splitter bar to narrow and widen pa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line Tab: outline of your slide tex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 Tab: displays thumbnails of your sli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004760" indent="-54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lide Pan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plays large view of your current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004760" indent="-54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tes Pan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plays any notes for your current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2502" r="85939" b="9376"/>
          <a:stretch/>
        </p:blipFill>
        <p:spPr>
          <a:xfrm>
            <a:off x="103320" y="2209680"/>
            <a:ext cx="1116000" cy="4648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10938" t="7294" r="21876" b="13540"/>
          <a:stretch/>
        </p:blipFill>
        <p:spPr>
          <a:xfrm>
            <a:off x="5334120" y="76320"/>
            <a:ext cx="3733560" cy="3300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76045" r="21876" b="6251"/>
          <a:stretch/>
        </p:blipFill>
        <p:spPr>
          <a:xfrm>
            <a:off x="2895480" y="5872320"/>
            <a:ext cx="6248520" cy="106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Sorter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lide Sorter 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isplays slides in thumbnail form.  After your presentation is created, use this view to reorder, add, or delete slides and preview your transitions, animation effects, motions clip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lide Tab will also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 you do many of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same tas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31031" t="0" r="37981" b="41982"/>
          <a:stretch/>
        </p:blipFill>
        <p:spPr>
          <a:xfrm>
            <a:off x="4876920" y="858960"/>
            <a:ext cx="1523880" cy="96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20255" b="35345"/>
          <a:stretch/>
        </p:blipFill>
        <p:spPr>
          <a:xfrm>
            <a:off x="5257800" y="4494240"/>
            <a:ext cx="3886200" cy="2363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Show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lide Show View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s up the full computer screen like an actual slide show presentation.  You can see how your graphics, timings, movies, animated elements, and transitions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ation will start at current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s F5 will start slideshow from begin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60162" t="0" r="9768" b="38005"/>
          <a:stretch/>
        </p:blipFill>
        <p:spPr>
          <a:xfrm>
            <a:off x="4724280" y="890640"/>
            <a:ext cx="1447920" cy="1014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p Ar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lso called graphics, pictures that can be added to enhance presen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tion Clip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raphics with m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Ar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-formatted stylized text.  These words will not be spell checked because the computer treats them as a graphi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xt Box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ox that allowed for typing that can be spell check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n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typing.  The style, size, and color may be chang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1057" t="90368" r="67190" b="7294"/>
          <a:stretch/>
        </p:blipFill>
        <p:spPr>
          <a:xfrm>
            <a:off x="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25782" t="89585" r="71095" b="6251"/>
          <a:stretch/>
        </p:blipFill>
        <p:spPr>
          <a:xfrm>
            <a:off x="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24220" t="89585" r="74222" b="7294"/>
          <a:stretch/>
        </p:blipFill>
        <p:spPr>
          <a:xfrm>
            <a:off x="0" y="4419720"/>
            <a:ext cx="50796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-1558" t="9376" r="73439" b="86465"/>
          <a:stretch/>
        </p:blipFill>
        <p:spPr>
          <a:xfrm>
            <a:off x="-304920" y="5943600"/>
            <a:ext cx="5029200" cy="558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44535" t="88547" r="51563" b="7294"/>
          <a:stretch/>
        </p:blipFill>
        <p:spPr>
          <a:xfrm>
            <a:off x="0" y="5334120"/>
            <a:ext cx="533520" cy="426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8320" y="3808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items like text boxes, graphics, motion clips, word art, sound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way it looks when moving slide to slid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 Show, Slide Tran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ustom Animation (Build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way objects appear on the slide.  A headline should not be part on an animation because it should stay on the slide at all tim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 Show, Custom Ani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pboa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place where the cut or copied item is plac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py &amp; Pas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make a duplicate of an object. The original item stays and a second can be placed elsewhe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py CTRL + C; Paste CTRL + 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ut &amp; Pas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move an object.  The original item is gone and moved to a place elsewhe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t CTRL + X; Paste CTRL + 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22681" t="6251" r="74905" b="89816"/>
          <a:stretch/>
        </p:blipFill>
        <p:spPr>
          <a:xfrm>
            <a:off x="0" y="5181480"/>
            <a:ext cx="685800" cy="83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25368" t="6251" r="70339" b="89816"/>
          <a:stretch/>
        </p:blipFill>
        <p:spPr>
          <a:xfrm>
            <a:off x="0" y="3505320"/>
            <a:ext cx="1219320" cy="838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27247" t="6251" r="70339" b="89816"/>
          <a:stretch/>
        </p:blipFill>
        <p:spPr>
          <a:xfrm>
            <a:off x="685800" y="5181480"/>
            <a:ext cx="685800" cy="838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ood Design Principl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Grade No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5:26:37Z</dcterms:created>
  <dc:creator>SWDL</dc:creator>
  <dc:description/>
  <dc:language>en-US</dc:language>
  <cp:lastModifiedBy>SWDL</cp:lastModifiedBy>
  <dcterms:modified xsi:type="dcterms:W3CDTF">2010-02-12T17:26:44Z</dcterms:modified>
  <cp:revision>19</cp:revision>
  <dc:subject/>
  <dc:title>PowerPoint Views &amp; Vocabulary</dc:title>
</cp:coreProperties>
</file>